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599C-6437-418E-B875-4A90284B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2D9-52BE-4E76-8B61-24B157AA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7CD-1315-4EC1-A70B-D9801E9F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B69B-E937-40D0-9503-4D9E14F3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3648-992C-4AAF-A850-9D8DE6BB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E89-2204-42B4-8CE0-DFEC8842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37A9-C181-473D-ABFB-CEC2672A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6F10-B76A-4BEC-A445-36CAC2B3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B8A-0C53-40AE-B83E-72F07BF1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9CD2-888C-4862-8CD5-BAEA01C6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508-6039-43E6-BE3F-1BA7556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DED1-E529-4AC7-9284-9323B598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5E3B-3A0F-44DB-8209-29653C819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athconsultddx.com/pathCon/largeImage?pii=S1559-8675(06)70907-X&amp;figureId=fig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1904760"/>
            <a:ext cx="7864200" cy="1600200"/>
          </a:xfrm>
          <a:prstGeom prst="rect">
            <a:avLst/>
          </a:prstGeom>
          <a:solidFill>
            <a:srgbClr val="eeece1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flammatory Bowel Disease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(IB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7440" y="388620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Users\ashawky\Desktop\mcst logo.jpg"/>
          <p:cNvPicPr/>
          <p:nvPr/>
        </p:nvPicPr>
        <p:blipFill>
          <a:blip r:embed="rId1"/>
          <a:stretch/>
        </p:blipFill>
        <p:spPr>
          <a:xfrm>
            <a:off x="6172200" y="457200"/>
            <a:ext cx="2629080" cy="666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3200" spc="-1" strike="noStrike">
                <a:solidFill>
                  <a:srgbClr val="ff0000"/>
                </a:solidFill>
                <a:latin typeface="Calibri"/>
              </a:rPr>
              <a:t>Colonic pseudopoly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562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Calibri"/>
              </a:rPr>
              <a:t>Marked lymphocytic infiltration (blue/purple) of the colonic muc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769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Crypt abscess, a classic finding in ulcerative colit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61" name="Right Arrow 1"/>
          <p:cNvSpPr/>
          <p:nvPr/>
        </p:nvSpPr>
        <p:spPr>
          <a:xfrm>
            <a:off x="2743200" y="3543480"/>
            <a:ext cx="1206360" cy="38088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U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" y="11430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. Bleeding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tal bleeding and bloody diarrhea are two of the hallmark symptoms of ulcerative colit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. Anemi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ulcerative colitis, this is usually the result of chronic blood los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. Malnutri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mptoms such as diarrhea and rectal bleeding can lead to a loss of fluids and nutri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228240" y="228240"/>
            <a:ext cx="83818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.Intestinal Stricture and obstructi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fib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. Cancer col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cerative colitis patients have a higher risk of developing colon cancer. The risk increases when ulcerative colitis for a prolonged period of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28600" y="30456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. Perforati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sive inflammation can lead to a tear in the intestinal wall, resulting in leakage of bowel contents outside the intestin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7. Toxic megacolon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nflammation spreads from the mucosa to involve the entire intestinal wall which temporarily stops the normal contractile movements of the intestine, and the large intestine may greatly exp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Crohn's disease</a:t>
            </a:r>
            <a:br>
              <a:rPr sz="7200"/>
            </a:b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(Regional enteriti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Calibri"/>
              </a:rPr>
              <a:t>* Morphological features of Crohn's diseas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* S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part of G.I.T, but the most common site is the terminal ileu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ffected part of the intestine show skip areas i.e. areas free from the le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intestinal wall is thick and rubbery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d by edema, inflammation, and fib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bble stone appearan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e to edema of the mucosa with interrupting fissuring ulc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228600" y="609480"/>
            <a:ext cx="87631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issuring of the wall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ith formation of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fistula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scopically there is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ransmural involvemen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f the bowel by mixed inflammatory cells and the presenc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n-caseating granuloma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oss appearance of Crohn's disease. There is a sharp demarcation between the involved and the uninvolved area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Gross appearance of Crohn's disease. There is a sharp demarcation between the involved and the uninvolved area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295280"/>
            <a:ext cx="6095880" cy="51818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75960" y="990720"/>
            <a:ext cx="8762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Defini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hronic condition characterized by intestinal inflammation and ulceration that has no exact identifiable cause; may be genetic, immunological or environment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4"/>
          <p:cNvSpPr/>
          <p:nvPr/>
        </p:nvSpPr>
        <p:spPr>
          <a:xfrm>
            <a:off x="685800" y="30481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Cobblestone appea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795240" y="589752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hn</a:t>
            </a:r>
            <a:r>
              <a:rPr b="1" lang="en-MY" sz="28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disease; </a:t>
            </a:r>
            <a:r>
              <a:rPr b="0" lang="en-MY" sz="2400" spc="-1" strike="noStrike" u="sng">
                <a:solidFill>
                  <a:srgbClr val="000000"/>
                </a:solidFill>
                <a:uFillTx/>
                <a:latin typeface="Arial"/>
              </a:rPr>
              <a:t>transmural inflamm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438280" y="228600"/>
            <a:ext cx="364824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6840" y="5638320"/>
            <a:ext cx="84582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ohn's disease;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owing marked inflammatory changes and the formation of a fiss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495324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168200" y="5486400"/>
            <a:ext cx="63608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rohn’s disease;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n-caseating epithioid granul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84872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Complications of crohn’s disease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 Intestinal obstruction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age occurs because the disease tends to thicken the intestinal wall by inflammation and finally fibrosis oc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 Fistula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stino-intestinal, intestino-abdominal and perianal fistula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824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3. Malabsorption syndrome: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iciencies of proteins, calories, and vitamins deficiencies may be caused by inadequate dietary intake, intestinal loss of protein, or poor absorp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76720" y="54860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Bradley Hand ITC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C:\Users\ashawky\Desktop\154423_534336243257052_1349915780_n.jpg"/>
          <p:cNvPicPr/>
          <p:nvPr/>
        </p:nvPicPr>
        <p:blipFill>
          <a:blip r:embed="rId1"/>
          <a:stretch/>
        </p:blipFill>
        <p:spPr>
          <a:xfrm>
            <a:off x="152280" y="457200"/>
            <a:ext cx="861084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304920" y="304920"/>
            <a:ext cx="8610480" cy="56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* Course of the IB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flammatory bowel disease is a chronic disease (lasting a long time), show periods of exacerbations in which the disease flares up and causes symptoms alternating with areas of remissions in which symptoms disappear or decrease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3"/>
          <p:cNvSpPr/>
          <p:nvPr/>
        </p:nvSpPr>
        <p:spPr>
          <a:xfrm>
            <a:off x="304920" y="152280"/>
            <a:ext cx="8534160" cy="64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* Symptoms include the followin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dominal cramps and pa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y diarrh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appetit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los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emia (due to blood lo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-intestinal manifestations: arthritis, eye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* Two common types of  IB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cerative coliti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hn’s diseas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Ulcerative coliti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* Morphological features of UC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lcerative colitis involve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ct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extend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ximall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 retrograd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hion to involve the entire colon ("pancolitis") in the more severe cas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he affected segment is diffusely inflamed and show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ked inflammatory cellular infiltrat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mucosa by lymphocytes, plasma cells and neutrophi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lcer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228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sudopolyps  formati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erplastic surface mucosal cells without fibrovascular cor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ryptitis and crypt absces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ce of neutrophils inside colonic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ysplasia of the colonic gland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is precancer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"/>
              </a:rPr>
              <a:t>Endoscopic image of a sigmoid colon  with ulcerative coliti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324480" cy="4790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03:37:56Z</dcterms:created>
  <dc:creator>shanky73</dc:creator>
  <dc:description/>
  <dc:language>en-US</dc:language>
  <cp:lastModifiedBy>Jihan Abdelmenam</cp:lastModifiedBy>
  <dcterms:modified xsi:type="dcterms:W3CDTF">2016-02-09T12:52:07Z</dcterms:modified>
  <cp:revision>149</cp:revision>
  <dc:subject/>
  <dc:title>Environmental Triggers ‘‘Westernization’’</dc:title>
</cp:coreProperties>
</file>